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18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4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07B-A44D-42E2-B19D-6EE96D21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E1B-5C3A-490A-904F-869726CC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4CE-901C-46C4-AF5D-AABFB672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863-3F8C-43EF-B269-58D8E441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9BDB-8E84-4331-9DA7-3EE0B7D2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21E7-05AC-463E-BFEE-A1997E6B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F8B7-955B-4397-8542-0E13E119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D242-17BB-43B6-859A-4AF5A8E1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04AF-259F-4CD5-A9FB-7811E896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A709-0E54-4B36-B29C-046DE3E2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B6BE-CF60-4191-B7E0-77099214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31E-7B32-4D17-A3F5-550F724F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926D-3837-4F69-A071-A06F7F7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8E02-BF72-42C4-B56D-DF168C05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EFA1-02D3-46AC-A796-1E1CE2D9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D1A4-0759-43CD-90D0-0CEF0C8A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817E-5D6E-4A77-BFFD-AF7333DB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D50-61C4-4232-B2B9-D10B068B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727-05F5-40C5-A789-3D9E01F2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F63-0B2B-4015-B589-C14872DB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FDD-A28E-4047-85C9-3BCC7BDA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D0B-B141-49CB-8F06-5D680D1C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50F-00E9-4DA6-A926-7F6757D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DA1-EA7D-48CD-B436-1963A830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CEC8-D26E-4B2B-9A16-34E5E180B6B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ADF8-A2E2-4EF0-AEB1-FDA05135F06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ahoma"/>
              </a:rPr>
              <a:t>Chapter 1</a:t>
            </a:r>
            <a:br>
              <a:rPr sz="48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Integrating UBD and DI</a:t>
            </a:r>
            <a:br>
              <a:rPr sz="36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Essential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Partnershi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209320" y="3809880"/>
            <a:ext cx="4496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438280" cy="1906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  <a:ea typeface="Times New Roman"/>
              </a:rPr>
              <a:t>Axiom 5 </a:t>
            </a:r>
            <a:br>
              <a:rPr sz="4400"/>
            </a:br>
            <a:r>
              <a:rPr b="1" lang="en-US" sz="2600" spc="-1" strike="noStrike">
                <a:solidFill>
                  <a:srgbClr val="660066"/>
                </a:solidFill>
                <a:latin typeface="Tahoma"/>
                <a:ea typeface="Times New Roman"/>
              </a:rPr>
              <a:t>Teachers provide opportunities for students to explore, interpret, apply, shift perspectives, empathize, and self assess.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Corollar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All students should be guided and supported in thinking in complex ways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Struggling learners do not have to master the basics before they can engage in thinking. For most students, mastery and understanding come through after meaningful interactions                                                                                                         with ideas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Students will differ in the level of sophistication of their thinking and understanding at a given time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Teachers should be prepared to provide opportunity and support to continually develop students’ understandings and capacities as thinkers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001000" y="1752480"/>
            <a:ext cx="990720" cy="1301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76312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  <a:ea typeface="Times New Roman"/>
              </a:rPr>
              <a:t>Axiom 6</a:t>
            </a:r>
            <a:br>
              <a:rPr sz="4400"/>
            </a:br>
            <a:r>
              <a:rPr b="1" lang="en-US" sz="2200" spc="-1" strike="noStrike">
                <a:solidFill>
                  <a:srgbClr val="660066"/>
                </a:solidFill>
                <a:latin typeface="Tahoma"/>
                <a:ea typeface="Times New Roman"/>
              </a:rPr>
              <a:t>Teachers, students, and districts benefit by “working smarter” and using technology and other vehicles to collaboratively design, share, and critique units of study.</a:t>
            </a:r>
            <a:br>
              <a:rPr sz="22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Corollar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Students also benefit when teachers share understandings about students’ learning needs, classroom routines, and instructional approaches to ensure that each student develops knowledge, understanding, and skills as fully as possible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A routine part of </a:t>
            </a:r>
            <a:r>
              <a:rPr b="1" lang="en-US" sz="2200" spc="-1" strike="noStrike" u="sng">
                <a:solidFill>
                  <a:srgbClr val="545472"/>
                </a:solidFill>
                <a:uFillTx/>
                <a:latin typeface="Tahoma"/>
              </a:rPr>
              <a:t>collaboration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 in academically diverse classrooms should occur between teachers and </a:t>
            </a:r>
            <a:r>
              <a:rPr b="1" lang="en-US" sz="2200" spc="-1" strike="noStrike" u="sng">
                <a:solidFill>
                  <a:srgbClr val="545472"/>
                </a:solidFill>
                <a:uFillTx/>
                <a:latin typeface="Tahoma"/>
              </a:rPr>
              <a:t>specialists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 who have </a:t>
            </a:r>
            <a:r>
              <a:rPr b="1" lang="en-US" sz="2200" spc="-1" strike="noStrike" u="sng">
                <a:solidFill>
                  <a:srgbClr val="545472"/>
                </a:solidFill>
                <a:uFillTx/>
                <a:latin typeface="Tahoma"/>
              </a:rPr>
              <a:t>expert knowledge about student needs and instructional approaches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 most likely to respond effectively to those students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Technology should be used to address varied learner needs and to assist the teacher in keeping track of student growth toward important curricular goals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924680" y="1752480"/>
            <a:ext cx="955800" cy="124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xiom 7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UBD is a way of thinking, not a program.  Educators adapt its tools and materials with the goal of promoting better student understanding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Corollar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Differentiated Instruction is a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way of thinking, not a formula or recipe.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 The goal is to maximize knowledge, understanding, skill for all learner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Effective DI requires thinking about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whom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we teach,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what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we teach,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where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we teach, and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how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we teach.  The information must also be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relevant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student.  This provides the student with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  <a:ea typeface="Times New Roman"/>
              </a:rPr>
              <a:t>maximum power as a learner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0120" y="3352680"/>
            <a:ext cx="1276200" cy="112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UBD = </a:t>
            </a: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U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nderstanding </a:t>
            </a: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B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y </a:t>
            </a: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D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sig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I = </a:t>
            </a: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D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fferentiated </a:t>
            </a: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I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nstruc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at is the logic for </a:t>
            </a:r>
            <a:r>
              <a:rPr b="1" i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joining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the two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odels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at are the </a:t>
            </a:r>
            <a:r>
              <a:rPr b="1" i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big ideas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for the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odels, and how do they look in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ction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43800" y="3962520"/>
            <a:ext cx="137160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UBD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meets the demands of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f a rigorous standard based curriculum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d the accountability of high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kes tests as well as the increasing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verse needs of students.  Thi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rtnership between UBD and DI is not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ly </a:t>
            </a:r>
            <a:r>
              <a:rPr b="1" i="1" lang="en-US" sz="3200" spc="-1" strike="noStrike">
                <a:solidFill>
                  <a:srgbClr val="545472"/>
                </a:solidFill>
                <a:latin typeface="Tahoma"/>
              </a:rPr>
              <a:t>reasonabl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but </a:t>
            </a:r>
            <a:r>
              <a:rPr b="1" i="1" lang="en-US" sz="3200" spc="-1" strike="noStrike">
                <a:solidFill>
                  <a:srgbClr val="545472"/>
                </a:solidFill>
                <a:latin typeface="Tahoma"/>
              </a:rPr>
              <a:t>essential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help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udents reach their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aximum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potential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629400" y="4952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UBD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“need” each other for the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llowing reason.  Effective classroom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ust consistently attend to these four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lements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Whom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ey teach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student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ey teach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learning environment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Wha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ey teach content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content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How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ey teach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instructi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2133720" cy="1555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UBD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s a 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curriculum design model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lineates guiding application of sound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inciples.  It is about “what we teach”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d “how we teach”.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D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s about 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processes and procedure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o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nsure effective learning for all student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 focuses on “whom we teach” and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ere we teach.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221004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xiom 1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The goal of quality curriculum is to develop and deepen student understanding.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 </a:t>
            </a:r>
            <a:br>
              <a:rPr sz="28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                  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162920" y="49528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3520" y="1828800"/>
            <a:ext cx="8001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45472"/>
                </a:solidFill>
                <a:uFillTx/>
                <a:latin typeface="Arial"/>
                <a:ea typeface="Arial"/>
              </a:rPr>
              <a:t>Corollari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All students’ benefit from curriculum that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Arial"/>
                <a:ea typeface="Arial"/>
              </a:rPr>
              <a:t>develops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and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Arial"/>
                <a:ea typeface="Arial"/>
              </a:rPr>
              <a:t>deepens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their understanding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Students require varied support systems to develop a deeper understanding based on individual ability, experience, opportunity, language development, interests and individual growth rate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6197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  <a:ea typeface="Arial"/>
              </a:rPr>
              <a:t>Axiom 2</a:t>
            </a:r>
            <a:br>
              <a:rPr sz="44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Arial"/>
              </a:rPr>
              <a:t>Evidence of student knowledge is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Arial"/>
              </a:rPr>
              <a:t>revealed when students apply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  <a:ea typeface="Arial"/>
              </a:rPr>
              <a:t>knowledge in authentic contexts.</a:t>
            </a:r>
            <a:br>
              <a:rPr sz="2800"/>
            </a:br>
            <a:r>
              <a:rPr b="0" lang="en-US" sz="4400" spc="-1" strike="noStrike">
                <a:solidFill>
                  <a:srgbClr val="660066"/>
                </a:solidFill>
                <a:latin typeface="Arial"/>
                <a:ea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45472"/>
                </a:solidFill>
                <a:uFillTx/>
                <a:latin typeface="Arial"/>
                <a:ea typeface="Arial"/>
              </a:rPr>
              <a:t>Corollar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Authentic applications will reveal varying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degrees of proficiency and sophistication in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students understanding and knowledge of skill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Effective teachers use the students’ present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level of skill proficiency to provide opportuniti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for them to develop a deeper knowledge and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understanding beyond their present point of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proficiency using varied learning modaliti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543800" y="1066680"/>
            <a:ext cx="1349280" cy="1217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xiom 3</a:t>
            </a:r>
            <a:br>
              <a:rPr sz="44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Planning with the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Tahoma"/>
              </a:rPr>
              <a:t>end in mind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helps you avoid unclear priorities and purposes of textbook coverage and activities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Corollar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ll learners benefit from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clear purposes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and priorities of conten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truggling learners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require focus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on essential knowledge, understanding, and skill of a uni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dvanced learners need </a:t>
            </a: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challenge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620120" y="3276720"/>
            <a:ext cx="142704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xiom 4</a:t>
            </a:r>
            <a:br>
              <a:rPr sz="4400"/>
            </a:b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Regular reviews of curriculum and assessment provide quality control and inform needed adjustments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Corollari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5472"/>
                </a:solidFill>
                <a:latin typeface="Tahoma"/>
              </a:rPr>
              <a:t>Results will show </a:t>
            </a:r>
            <a:r>
              <a:rPr b="1" lang="en-US" sz="2600" spc="-1" strike="noStrike" u="sng">
                <a:solidFill>
                  <a:srgbClr val="545472"/>
                </a:solidFill>
                <a:uFillTx/>
                <a:latin typeface="Tahoma"/>
              </a:rPr>
              <a:t>variation</a:t>
            </a:r>
            <a:r>
              <a:rPr b="1" lang="en-US" sz="2600" spc="-1" strike="noStrike">
                <a:solidFill>
                  <a:srgbClr val="545472"/>
                </a:solidFill>
                <a:latin typeface="Tahoma"/>
              </a:rPr>
              <a:t> among students in essential knowledge, understanding, and skills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5472"/>
                </a:solidFill>
                <a:latin typeface="Tahoma"/>
              </a:rPr>
              <a:t>Adjustments to curriculum and instruction should be targeted to individuals as well as to the whole class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5472"/>
                </a:solidFill>
                <a:latin typeface="Tahoma"/>
              </a:rPr>
              <a:t>Adjustments will require </a:t>
            </a:r>
            <a:r>
              <a:rPr b="1" lang="en-US" sz="2600" spc="-1" strike="noStrike" u="sng">
                <a:solidFill>
                  <a:srgbClr val="545472"/>
                </a:solidFill>
                <a:uFillTx/>
                <a:latin typeface="Tahoma"/>
              </a:rPr>
              <a:t>flexible </a:t>
            </a:r>
            <a:r>
              <a:rPr b="1" lang="en-US" sz="2600" spc="-1" strike="noStrike">
                <a:solidFill>
                  <a:srgbClr val="545472"/>
                </a:solidFill>
                <a:latin typeface="Tahoma"/>
              </a:rPr>
              <a:t>use of teacher attention, materials, student groupings, etc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20120" y="4724280"/>
            <a:ext cx="1320840" cy="181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1:27:18Z</dcterms:created>
  <dc:creator> johanna martinez</dc:creator>
  <dc:description/>
  <dc:language>en-US</dc:language>
  <cp:lastModifiedBy>North Rockland High School</cp:lastModifiedBy>
  <dcterms:modified xsi:type="dcterms:W3CDTF">2009-12-03T14:09:06Z</dcterms:modified>
  <cp:revision>8</cp:revision>
  <dc:subject/>
  <dc:title>Chapter 1 Integrating UBD and DI An Essential Partnership</dc:title>
</cp:coreProperties>
</file>